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890-C127-4D28-9906-0382016D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759-A6C5-4A30-A865-15D84405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C09-3D86-457F-89D6-956BFD2F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A7C-28DB-4472-BD8A-4DB856F5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1BCC-DCF0-4F0C-848F-66771895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70A0-8A9C-48D1-B096-BF2F9DD5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858B-7E6A-4277-8AB6-E0843C5F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8537-F09F-4E73-85CC-DE32707F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4A8A-0C26-4B60-A545-A0573AE6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1F7A-0F2A-4751-853D-DFF2FC63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E3DC-E20A-4EE8-975B-6F48C772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EA7-E600-4FF6-891E-3FD10E93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4B5C-013F-4E29-9FE2-62A16B92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0AD7-ED6D-4D50-87B4-85806F82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5EFE-274D-471A-A056-118AFFC0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5AC7-9ED3-43EB-AA1E-ACABCE74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DB47-1BFF-4858-909E-567555BE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C12-0A8F-4714-8EFB-0472E430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0CD-73FA-470B-8CD7-670462BE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F9C9-9335-43CF-BE21-3FAE5207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2EE-5839-4161-BFB1-7733AEDC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66F-5E78-4155-94C3-612CAE3B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F08-662C-46A9-B9C7-06D15E48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9EA-7887-4407-9D4C-597DD905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F0B2-A843-4518-9A78-B8FC40C2580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D99D-59BD-46EA-AEF7-E5631474CAB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19640" y="333360"/>
            <a:ext cx="21412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Comic Sans MS"/>
              </a:rPr>
              <a:t>Croeseiriau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6960" y="1047600"/>
            <a:ext cx="8091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eaeaea"/>
                </a:solidFill>
                <a:latin typeface="Comic Sans MS"/>
              </a:rPr>
              <a:t>Mae Ann yn ceisio datrys y croesair yn y papur newyd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eaeaea"/>
                </a:solidFill>
                <a:latin typeface="Comic Sans MS"/>
              </a:rPr>
              <a:t>pob dyd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eaeaea"/>
                </a:solidFill>
                <a:latin typeface="Comic Sans MS"/>
              </a:rPr>
              <a:t>Os yw’n llwyddo i ddatrys y croesair yn llwyddiannus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eaeaea"/>
                </a:solidFill>
                <a:latin typeface="Comic Sans MS"/>
              </a:rPr>
              <a:t>mae’n rhoi </a:t>
            </a:r>
            <a:r>
              <a:rPr b="0" lang="cy-GB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cy-GB" sz="2400" spc="-1" strike="noStrike">
                <a:solidFill>
                  <a:srgbClr val="eaeaea"/>
                </a:solidFill>
                <a:latin typeface="Comic Sans MS"/>
              </a:rPr>
              <a:t> pwynt iddi hi ei hu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eaeaea"/>
                </a:solidFill>
                <a:latin typeface="Comic Sans MS"/>
              </a:rPr>
              <a:t>Os nad yw’n llwyddiannus, mae’n colli </a:t>
            </a:r>
            <a:r>
              <a:rPr b="0" lang="cy-GB" sz="24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cy-GB" sz="2400" spc="-1" strike="noStrike">
                <a:solidFill>
                  <a:srgbClr val="eaeaea"/>
                </a:solidFill>
                <a:latin typeface="Comic Sans MS"/>
              </a:rPr>
              <a:t> pwyn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eaeaea"/>
                </a:solidFill>
                <a:latin typeface="Comic Sans MS"/>
              </a:rPr>
              <a:t>Ar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ôl 30 diwrnod, mae ei sgôr yn ser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Sawl croesair lwyddodd Ann i ddatrys 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372360" y="4292640"/>
            <a:ext cx="2314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8:34:50Z</dcterms:created>
  <dc:creator>Carwyn</dc:creator>
  <dc:description/>
  <dc:language>en-US</dc:language>
  <cp:lastModifiedBy>Carwyn</cp:lastModifiedBy>
  <dcterms:modified xsi:type="dcterms:W3CDTF">2009-01-06T12:18:39Z</dcterms:modified>
  <cp:revision>2</cp:revision>
  <dc:subject/>
  <dc:title>Croeseiriau</dc:title>
</cp:coreProperties>
</file>